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media/image11.png" ContentType="image/png"/>
  <Override PartName="/ppt/media/image6.png" ContentType="image/png"/>
  <Override PartName="/ppt/media/image9.wmf" ContentType="image/x-wmf"/>
  <Override PartName="/ppt/media/image14.png" ContentType="image/png"/>
  <Override PartName="/ppt/media/image5.jpeg" ContentType="image/jpe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2.jpeg" ContentType="image/jpeg"/>
  <Override PartName="/ppt/media/image1.jpeg" ContentType="image/jpeg"/>
  <Override PartName="/ppt/media/image10.png" ContentType="image/png"/>
  <Override PartName="/ppt/media/image4.jpeg" ContentType="image/jpeg"/>
  <Override PartName="/ppt/media/image2.png" ContentType="image/png"/>
  <Override PartName="/ppt/embeddings/oleObject1.bin" ContentType="application/vnd.openxmlformats-officedocument.oleObject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4EF3-1AA2-4043-BDC0-0685013AB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94D7-9039-4C65-9C04-535DCE37C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C1BA-A5F0-4502-A65B-6A6A6DE62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6DF2-ED40-44B2-B579-B11711EB9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9BEA5-6233-419F-9B67-9453DF33D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41EE0-4217-41F3-88CA-79227D268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ECE60-4C4E-4D84-BAE8-A87A2D535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8F5A6-EEF0-4DDB-BE97-80C1E4943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60299-F2CB-4E21-B51A-9B5FFD254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D9C10-6DBF-47D7-A5CE-2782C2886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FA56B-FCF5-4A3C-98EA-1A52A58BF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CF8A-AF7E-44C6-BE9E-C147E8ECD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F164F-2F52-40B7-96A7-0E4A295EE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2967D-2E52-450E-9467-C7C2B21B1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16C94-E041-4F3D-8297-4184A2BEF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0A5E1-C0C7-4E99-AF28-DF7BFD560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2058E-8CE3-47C8-8B48-376F2E700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70254-2822-4304-840B-5C52B90D7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73485-C93A-460F-9173-4DD6FEA9D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23910-9ACA-4C41-B206-EA97D0B36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01547-7329-42E6-9479-C6E23CF20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5EDE2-0D17-461C-9C21-F7738AE21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43BF-C3C5-4459-B02A-84A969B47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005E4-B16E-4B80-8610-E12F3045C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F9491-1415-4B93-9B1C-39F5DC536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5F5F6-DE46-4DA4-A3E5-5AA306D8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A8761-DF44-4675-9AAF-9BDD726A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50379-7008-4860-8916-60AB40C0C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BA8DB-A508-4D9A-8361-5831A3779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9D4C6-9DFE-4A9A-B290-EED9ED9F2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C80E4-BD4A-41DD-BF7E-1A388C7D9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AC88C-09DE-492F-9933-E35B510F0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0E13E-CF4E-42F4-9A92-9772BCDEA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4E0A-CF62-43B1-A236-B089A0B0E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7D64A-3E10-46F6-8E0D-28896C93F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33EA0-5012-4439-A594-902BD1D53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AF69B-435E-4E45-85E7-950233935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C9A74-7BA3-444D-A442-30832A2C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F466D-CE85-4EF7-BA25-8BF8A6D5B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91B75-0E6F-4011-881F-8263A540A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7EDDF-EBA0-4A71-86FF-BE9A4285F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617EF-E7D6-49DB-8224-1DEB8B682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878C5-A3AB-4F29-8550-787E47F4B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0EB0-BD36-4180-9E67-944E56BB7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EE2C-6AEA-42A1-A86F-F60E446C7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53D5-0F4E-456F-A3F1-BA8AECDB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7978-BDC0-4CC1-B2A8-F92CF1502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C804-9F06-4345-8892-FAE56B48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64017-DF7A-47A0-ABED-67C2B254B5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>
            <a:lum bright="-6000"/>
          </a:blip>
          <a:srcRect l="13306" t="0" r="12716" b="0"/>
          <a:stretch/>
        </p:blipFill>
        <p:spPr>
          <a:xfrm>
            <a:off x="7391520" y="304920"/>
            <a:ext cx="1431720" cy="954000"/>
          </a:xfrm>
          <a:prstGeom prst="rect">
            <a:avLst/>
          </a:prstGeom>
          <a:ln w="0">
            <a:noFill/>
          </a:ln>
        </p:spPr>
      </p:pic>
      <p:grpSp>
        <p:nvGrpSpPr>
          <p:cNvPr id="6" name=""/>
          <p:cNvGrpSpPr/>
          <p:nvPr/>
        </p:nvGrpSpPr>
        <p:grpSpPr>
          <a:xfrm>
            <a:off x="196920" y="6122880"/>
            <a:ext cx="2358360" cy="621360"/>
            <a:chOff x="196920" y="6122880"/>
            <a:chExt cx="2358360" cy="621360"/>
          </a:xfrm>
        </p:grpSpPr>
        <p:graphicFrame>
          <p:nvGraphicFramePr>
            <p:cNvPr id="7" name=""/>
            <p:cNvGraphicFramePr/>
            <p:nvPr/>
          </p:nvGraphicFramePr>
          <p:xfrm>
            <a:off x="196920" y="6122880"/>
            <a:ext cx="588240" cy="5392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96920" y="6122880"/>
                      <a:ext cx="588240" cy="53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" name=""/>
            <p:cNvSpPr/>
            <p:nvPr/>
          </p:nvSpPr>
          <p:spPr>
            <a:xfrm>
              <a:off x="759240" y="6375960"/>
              <a:ext cx="179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ffffff"/>
                  </a:solidFill>
                  <a:latin typeface="Times New Roman"/>
                </a:rPr>
                <a:t>Visanet del Per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2E250-9AEC-4939-B872-DF6E181630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96920" y="6165720"/>
            <a:ext cx="2358360" cy="621360"/>
            <a:chOff x="196920" y="6165720"/>
            <a:chExt cx="2358360" cy="621360"/>
          </a:xfrm>
        </p:grpSpPr>
        <p:graphicFrame>
          <p:nvGraphicFramePr>
            <p:cNvPr id="51" name=""/>
            <p:cNvGraphicFramePr/>
            <p:nvPr/>
          </p:nvGraphicFramePr>
          <p:xfrm>
            <a:off x="196920" y="6165720"/>
            <a:ext cx="588240" cy="539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6920" y="6165720"/>
                      <a:ext cx="588240" cy="53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3" name=""/>
            <p:cNvSpPr/>
            <p:nvPr/>
          </p:nvSpPr>
          <p:spPr>
            <a:xfrm>
              <a:off x="759240" y="6418800"/>
              <a:ext cx="179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ffffff"/>
                  </a:solidFill>
                  <a:latin typeface="Times New Roman"/>
                </a:rPr>
                <a:t>Visanet del Per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4" name="" descr=""/>
          <p:cNvPicPr/>
          <p:nvPr/>
        </p:nvPicPr>
        <p:blipFill>
          <a:blip r:embed="rId5">
            <a:lum bright="-6000"/>
          </a:blip>
          <a:srcRect l="13306" t="0" r="12716" b="0"/>
          <a:stretch/>
        </p:blipFill>
        <p:spPr>
          <a:xfrm>
            <a:off x="7391520" y="304920"/>
            <a:ext cx="1431720" cy="95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47DB3-56EB-405F-A2E0-16960EDDBD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>
            <a:lum bright="-6000"/>
          </a:blip>
          <a:srcRect l="13306" t="0" r="12716" b="0"/>
          <a:stretch/>
        </p:blipFill>
        <p:spPr>
          <a:xfrm>
            <a:off x="7391520" y="304920"/>
            <a:ext cx="1431720" cy="95400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196920" y="6122880"/>
            <a:ext cx="2358360" cy="621360"/>
            <a:chOff x="196920" y="6122880"/>
            <a:chExt cx="2358360" cy="621360"/>
          </a:xfrm>
        </p:grpSpPr>
        <p:graphicFrame>
          <p:nvGraphicFramePr>
            <p:cNvPr id="98" name=""/>
            <p:cNvGraphicFramePr/>
            <p:nvPr/>
          </p:nvGraphicFramePr>
          <p:xfrm>
            <a:off x="196920" y="6122880"/>
            <a:ext cx="588240" cy="5392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9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96920" y="6122880"/>
                      <a:ext cx="588240" cy="53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0" name=""/>
            <p:cNvSpPr/>
            <p:nvPr/>
          </p:nvSpPr>
          <p:spPr>
            <a:xfrm>
              <a:off x="759240" y="6375960"/>
              <a:ext cx="179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ffffff"/>
                  </a:solidFill>
                  <a:latin typeface="Times New Roman"/>
                </a:rPr>
                <a:t>Visanet del Per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EE0FF-BB1E-452D-B9E3-60A7837CF9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96920" y="6122880"/>
            <a:ext cx="2358360" cy="621360"/>
            <a:chOff x="196920" y="6122880"/>
            <a:chExt cx="2358360" cy="621360"/>
          </a:xfrm>
        </p:grpSpPr>
        <p:graphicFrame>
          <p:nvGraphicFramePr>
            <p:cNvPr id="142" name=""/>
            <p:cNvGraphicFramePr/>
            <p:nvPr/>
          </p:nvGraphicFramePr>
          <p:xfrm>
            <a:off x="196920" y="6122880"/>
            <a:ext cx="588240" cy="539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6920" y="6122880"/>
                      <a:ext cx="588240" cy="53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4" name=""/>
            <p:cNvSpPr/>
            <p:nvPr/>
          </p:nvSpPr>
          <p:spPr>
            <a:xfrm>
              <a:off x="759240" y="6375960"/>
              <a:ext cx="179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ffffff"/>
                  </a:solidFill>
                  <a:latin typeface="Times New Roman"/>
                </a:rPr>
                <a:t>Visanet del Per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45" name="" descr=""/>
          <p:cNvPicPr/>
          <p:nvPr/>
        </p:nvPicPr>
        <p:blipFill>
          <a:blip r:embed="rId5">
            <a:lum bright="-6000"/>
          </a:blip>
          <a:srcRect l="13306" t="0" r="12716" b="0"/>
          <a:stretch/>
        </p:blipFill>
        <p:spPr>
          <a:xfrm>
            <a:off x="7391520" y="304920"/>
            <a:ext cx="1431720" cy="9540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hyperlink" Target="http://secure.iquiero.com/peru/modules/services/security_privacy.asp" TargetMode="External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95640" y="2536920"/>
            <a:ext cx="47498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TECNOLOGIA Y NEGOCIOS”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643280" y="4724280"/>
            <a:ext cx="417672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Tahoma"/>
              </a:rPr>
              <a:t>Cesar Rodríguez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Tahoma"/>
              </a:rPr>
              <a:t>Gerente Desarrollo de Product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Tahoma"/>
              </a:rPr>
              <a:t>Visanet del Per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611280" y="1717560"/>
            <a:ext cx="2411280" cy="358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2B876-9F92-4C8E-B64C-A6B91A049BB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1116000" y="1322280"/>
            <a:ext cx="6264360" cy="4699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2CE21-5132-415D-A6E9-DA1DDFB04EC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e5ffff"/>
                </a:solidFill>
                <a:latin typeface="Tahoma"/>
              </a:rPr>
              <a:t>Verified by Vis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3564000" y="3213000"/>
          <a:ext cx="2232000" cy="1222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64000" y="3213000"/>
                    <a:ext cx="2232000" cy="12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D8851-4FCD-4967-9149-F32518BDEDC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57360" y="1206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84320" y="69228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5ffff"/>
                </a:solidFill>
                <a:latin typeface="Tahoma"/>
              </a:rPr>
              <a:t>Transacción VbV…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122400" y="1268280"/>
            <a:ext cx="2925720" cy="21956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71280" y="3421080"/>
            <a:ext cx="29055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ffff"/>
                </a:solidFill>
                <a:latin typeface="Arial"/>
              </a:rPr>
              <a:t>1.Agregar un producto al carri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3114720" y="1292400"/>
            <a:ext cx="2925720" cy="2193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4051440" y="3433680"/>
            <a:ext cx="1311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ffff"/>
                </a:solidFill>
                <a:latin typeface="Arial"/>
              </a:rPr>
              <a:t>2.Registrar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6107040" y="1306440"/>
            <a:ext cx="2925720" cy="219564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6341040" y="3429000"/>
            <a:ext cx="2602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ffff"/>
                </a:solidFill>
                <a:latin typeface="Arial"/>
              </a:rPr>
              <a:t>3. Importe Total en el Carri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5"/>
          <a:stretch/>
        </p:blipFill>
        <p:spPr>
          <a:xfrm>
            <a:off x="122400" y="3700440"/>
            <a:ext cx="2925720" cy="21956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86760" y="5850000"/>
            <a:ext cx="295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ffff"/>
                </a:solidFill>
                <a:latin typeface="Arial"/>
              </a:rPr>
              <a:t>4. Ingresar Tarjeta y vencimien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6"/>
          <a:stretch/>
        </p:blipFill>
        <p:spPr>
          <a:xfrm>
            <a:off x="3135240" y="3713040"/>
            <a:ext cx="2925720" cy="219564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3614040" y="5850000"/>
            <a:ext cx="2113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ffff"/>
                </a:solidFill>
                <a:latin typeface="Arial"/>
              </a:rPr>
              <a:t>5. Ingresar Contraseñ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7"/>
          <a:stretch/>
        </p:blipFill>
        <p:spPr>
          <a:xfrm>
            <a:off x="6124680" y="3713040"/>
            <a:ext cx="2925720" cy="219564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6352920" y="5843520"/>
            <a:ext cx="2631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ffff"/>
                </a:solidFill>
                <a:latin typeface="Arial"/>
              </a:rPr>
              <a:t>6. Pantalla final de respues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03240" y="3137040"/>
            <a:ext cx="235080" cy="1206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11720" y="2305080"/>
            <a:ext cx="635040" cy="235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943680" y="2165400"/>
            <a:ext cx="1295280" cy="5619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05040" y="4683240"/>
            <a:ext cx="838080" cy="1713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19600" y="4740120"/>
            <a:ext cx="571320" cy="1429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43680" y="4403880"/>
            <a:ext cx="1219320" cy="3711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BD75C-50D6-4B01-93BD-3C1B3D7C72C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5ffff"/>
                </a:solidFill>
                <a:latin typeface="Tahoma"/>
              </a:rPr>
              <a:t>Adopción de VbV a nivel Global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24000" y="1544760"/>
            <a:ext cx="863280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 algn="just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61 países representan el 99% del mercado global de e-commer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1763640" y="2781360"/>
          <a:ext cx="5991120" cy="3579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63640" y="2781360"/>
                    <a:ext cx="5991120" cy="35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9D904-F23F-4D21-9F97-2FB81DE4CE4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4272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5ffff"/>
                </a:solidFill>
                <a:latin typeface="Tahoma"/>
              </a:rPr>
              <a:t>Algunas sugerencias para los </a:t>
            </a:r>
            <a:br>
              <a:rPr sz="3200"/>
            </a:br>
            <a:r>
              <a:rPr b="0" lang="es-ES_tradnl" sz="3200" spc="-1" strike="noStrike">
                <a:solidFill>
                  <a:srgbClr val="e5ffff"/>
                </a:solidFill>
                <a:latin typeface="Tahoma"/>
              </a:rPr>
              <a:t>comercios electrónico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19120" y="198900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mpradores nuev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mpras más grandes que las norma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mpras con muchos items repetid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mpradores apurad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Direcciones internaciona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7984B-293D-4C50-B363-AD94770FDF0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143240" y="2536920"/>
            <a:ext cx="47498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Visa, Por que la Tecnología es Ahora”</a:t>
            </a:r>
            <a:br>
              <a:rPr sz="32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Aplicaciones globales para 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el mercado local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643280" y="5180040"/>
            <a:ext cx="417672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Tahoma"/>
              </a:rPr>
              <a:t>Cesar Rodríguez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Tahoma"/>
              </a:rPr>
              <a:t>Gerente Desarrollo de Product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Tahoma"/>
              </a:rPr>
              <a:t>Visanet del Per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179280" y="1773360"/>
            <a:ext cx="3961080" cy="3240000"/>
          </a:xfrm>
          <a:prstGeom prst="rect">
            <a:avLst/>
          </a:prstGeom>
          <a:ln w="38160">
            <a:solidFill>
              <a:srgbClr val="6699ff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DEDBF-14F5-4FF8-B0B8-EC2999740755}" type="slidenum">
              <a:t>15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e5ffff"/>
                </a:solidFill>
                <a:latin typeface="Tahoma"/>
              </a:rPr>
              <a:t>Introducción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 presencia de las nuevas tecnologías en la sociedad es cada vez más perceptible y no sólo afecta a factores económicos y empresariales como la producción, la distribución, el mercado o el empleo, sino que comienza a convertirse en piedra angular de cualquier actividad humana moderna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" descr="Printed Circuit Board"/>
          <p:cNvPicPr/>
          <p:nvPr/>
        </p:nvPicPr>
        <p:blipFill>
          <a:blip r:embed="rId2"/>
          <a:stretch/>
        </p:blipFill>
        <p:spPr>
          <a:xfrm>
            <a:off x="5724360" y="1844640"/>
            <a:ext cx="29592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03841-74DA-46FD-9F56-CFE8F614BB0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24160" y="447840"/>
            <a:ext cx="809568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e5ffff"/>
                </a:solidFill>
                <a:latin typeface="Tahoma"/>
              </a:rPr>
              <a:t>Introducción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6840" y="1981080"/>
            <a:ext cx="46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 desarrollo tecnológico como la Internet, las comunicaciones móviles, banda ancha, satélites, las microondas, etc.– estan produciendo cambios significativos en la estructura económica y social, y en el conjunto de las relaciones social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tamos ante un nuevo modelo social, la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"sociedad globalizada"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en el que las fronteras desaparecen en beneficio de los intercambios de ideas, mensajes, productos, servicios, personas..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1" name="" descr="scifi112"/>
          <p:cNvPicPr/>
          <p:nvPr/>
        </p:nvPicPr>
        <p:blipFill>
          <a:blip r:embed="rId2"/>
          <a:stretch/>
        </p:blipFill>
        <p:spPr>
          <a:xfrm>
            <a:off x="5651640" y="2519280"/>
            <a:ext cx="3168360" cy="2202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8CDB6-F652-461E-A582-24E44544B16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62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e5ffff"/>
                </a:solidFill>
                <a:latin typeface="Tahoma"/>
              </a:rPr>
              <a:t>Oportunidades que brinda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Mejora de los procesos de negocio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Con el uso de las nuevas tecnologías, se tiene la gran oportunidad de redefinir los procesos de negocio mejorándolos importantemente y reduciendo sus cost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Mejora de las acciones de comunicación: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puede emplear Internet para la mejora de las comunicaciones tanto con los clientes como con los proveedores. Esto repercutirá directamente en los costes de comunicación reduciéndolos drásticament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Fidelización de los clientes: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estos momentos, ninguna organización puede permitirse perder clientes. Para ello, tener las correctas estrategias de fidelización de clientes apoyadas por las nuevas tecnologías e Internet puede ser definitiv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4E243-02F0-4D49-8B31-7EF0D216F41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35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e5ffff"/>
                </a:solidFill>
                <a:latin typeface="Tahoma"/>
              </a:rPr>
              <a:t>Oportunidades que brinda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Captación de clientes a costes "razonables"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empleando Internet para el desarrollo de acciones a un coste interesante, lo que repercutirá en los ingresos de la empresa con una inversión, y por tanto riesgo, permisibl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Reducción de costes de compras: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gracias a la eliminación de intermediarios, descubrimiento de nuevos proveedores y al uso de subastas en las tiendas virtuales (e-marketplaces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EA4B7-4DEA-49E2-93B8-F512D571D95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446040" y="1622520"/>
            <a:ext cx="7935840" cy="440856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468360" y="1647720"/>
          <a:ext cx="8155080" cy="451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647720"/>
                    <a:ext cx="815508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438120" y="387360"/>
            <a:ext cx="796284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5ffff"/>
                </a:solidFill>
                <a:latin typeface="Tahoma"/>
              </a:rPr>
              <a:t>Factores Determinantes en </a:t>
            </a:r>
            <a:br>
              <a:rPr sz="3200"/>
            </a:br>
            <a:r>
              <a:rPr b="0" lang="es-ES" sz="3200" spc="-1" strike="noStrike">
                <a:solidFill>
                  <a:srgbClr val="e5ffff"/>
                </a:solidFill>
                <a:latin typeface="Tahoma"/>
              </a:rPr>
              <a:t>la Compra 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virtu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1619280" y="4024440"/>
            <a:ext cx="2322360" cy="1008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720960" y="35924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Tahoma"/>
              </a:rPr>
              <a:t>3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DA5A1-AD24-4F21-9A2A-A24F4BDE354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514080" y="1847520"/>
            <a:ext cx="792468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Los tipos de fraude más comunes son: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) El uso de tarjetas de crédito robada.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b) Utilización de identidades falsas.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) Software generador de números de tarjet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) Paginas clonad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179280" y="61128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5ffff"/>
                </a:solidFill>
                <a:latin typeface="Tahoma"/>
              </a:rPr>
              <a:t>Fraude en la Internet: Mito o Realidad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24000" y="4094280"/>
            <a:ext cx="2146320" cy="1422360"/>
            <a:chOff x="324000" y="4094280"/>
            <a:chExt cx="2146320" cy="1422360"/>
          </a:xfrm>
        </p:grpSpPr>
        <p:sp>
          <p:nvSpPr>
            <p:cNvPr id="205" name=""/>
            <p:cNvSpPr/>
            <p:nvPr/>
          </p:nvSpPr>
          <p:spPr>
            <a:xfrm>
              <a:off x="324000" y="4094280"/>
              <a:ext cx="2146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Autenticación del Tarjetahabiente 95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06" name="" descr=""/>
            <p:cNvPicPr/>
            <p:nvPr/>
          </p:nvPicPr>
          <p:blipFill>
            <a:blip r:embed="rId2"/>
            <a:stretch/>
          </p:blipFill>
          <p:spPr>
            <a:xfrm>
              <a:off x="684360" y="4640040"/>
              <a:ext cx="1368360" cy="876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7" name=""/>
          <p:cNvGrpSpPr/>
          <p:nvPr/>
        </p:nvGrpSpPr>
        <p:grpSpPr>
          <a:xfrm>
            <a:off x="2627280" y="4075200"/>
            <a:ext cx="1765440" cy="1338120"/>
            <a:chOff x="2627280" y="4075200"/>
            <a:chExt cx="1765440" cy="1338120"/>
          </a:xfrm>
        </p:grpSpPr>
        <p:sp>
          <p:nvSpPr>
            <p:cNvPr id="208" name=""/>
            <p:cNvSpPr/>
            <p:nvPr/>
          </p:nvSpPr>
          <p:spPr>
            <a:xfrm>
              <a:off x="2627280" y="4075200"/>
              <a:ext cx="17654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Autenticación</a:t>
              </a:r>
              <a:br>
                <a:rPr sz="1400"/>
              </a:b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del Comercio</a:t>
              </a:r>
              <a:br>
                <a:rPr sz="1400"/>
              </a:b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2%</a:t>
              </a:r>
              <a:r>
                <a:rPr b="0" lang="es-MX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209" name=""/>
            <p:cNvGraphicFramePr/>
            <p:nvPr/>
          </p:nvGraphicFramePr>
          <p:xfrm>
            <a:off x="3065400" y="4749840"/>
            <a:ext cx="960480" cy="663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65400" y="4749840"/>
                      <a:ext cx="960480" cy="66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11" name=""/>
          <p:cNvGrpSpPr/>
          <p:nvPr/>
        </p:nvGrpSpPr>
        <p:grpSpPr>
          <a:xfrm>
            <a:off x="4716360" y="4075560"/>
            <a:ext cx="1798560" cy="936000"/>
            <a:chOff x="4716360" y="4075560"/>
            <a:chExt cx="1798560" cy="936000"/>
          </a:xfrm>
        </p:grpSpPr>
        <p:sp>
          <p:nvSpPr>
            <p:cNvPr id="212" name=""/>
            <p:cNvSpPr/>
            <p:nvPr/>
          </p:nvSpPr>
          <p:spPr>
            <a:xfrm>
              <a:off x="4851360" y="4686120"/>
              <a:ext cx="1465200" cy="325440"/>
            </a:xfrm>
            <a:prstGeom prst="leftRightArrow">
              <a:avLst>
                <a:gd name="adj1" fmla="val 50000"/>
                <a:gd name="adj2" fmla="val 89627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716360" y="4075560"/>
              <a:ext cx="1798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Encripción del Canal</a:t>
              </a:r>
              <a:br>
                <a:rPr sz="1400"/>
              </a:b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1%</a:t>
              </a:r>
              <a:r>
                <a:rPr b="0" lang="es-MX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6800760" y="4065480"/>
            <a:ext cx="2019240" cy="1739880"/>
            <a:chOff x="6800760" y="4065480"/>
            <a:chExt cx="2019240" cy="1739880"/>
          </a:xfrm>
        </p:grpSpPr>
        <p:sp>
          <p:nvSpPr>
            <p:cNvPr id="215" name=""/>
            <p:cNvSpPr/>
            <p:nvPr/>
          </p:nvSpPr>
          <p:spPr>
            <a:xfrm>
              <a:off x="7376760" y="5075280"/>
              <a:ext cx="979200" cy="7300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646"/>
                </a:gs>
                <a:gs pos="5000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800760" y="4065480"/>
              <a:ext cx="20192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Ataques a la base de datos del Comercio (Ejemplo, Hacker)</a:t>
              </a:r>
              <a:br>
                <a:rPr sz="1400"/>
              </a:b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2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87157-BBD7-48C6-93CA-4924680B919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14080" y="18475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simismo el 47% cree que añadiendo un logo o icono de algunas soluciones dedicadas a la seguridad en las transacciones y que influyan en la confianza del usuario ayudarían a suavizar el miedo de los consumidores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179280" y="61128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5ffff"/>
                </a:solidFill>
                <a:latin typeface="Tahoma"/>
              </a:rPr>
              <a:t>Fraude en la Internet: Mito o Realidad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1187280" y="4149720"/>
            <a:ext cx="1081080" cy="10555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3780000" y="4221000"/>
            <a:ext cx="822240" cy="9367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796000" y="4005360"/>
            <a:ext cx="793800" cy="122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6A34A-DCF8-409C-B71D-554FD340ED8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250920" y="7621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Requisitos de Seguridad en los Pag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5360" y="198900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uatro Principi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5360" y="2852640"/>
            <a:ext cx="7924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Autenticación del Comerc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95360" y="3348000"/>
            <a:ext cx="7924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Encripción del ca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68360" y="4378320"/>
            <a:ext cx="7924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Autenticación del Cli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95360" y="3348000"/>
            <a:ext cx="7924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Encripción del ca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68360" y="3801960"/>
            <a:ext cx="7924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Base de datos ( Información del clien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3F9A3-3F85-41BD-A8BE-BAB80FA60E0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3T19:48:55Z</dcterms:created>
  <dc:creator>crodriguez</dc:creator>
  <dc:description/>
  <dc:language>en-US</dc:language>
  <cp:lastModifiedBy>jore</cp:lastModifiedBy>
  <dcterms:modified xsi:type="dcterms:W3CDTF">2004-11-25T13:21:24Z</dcterms:modified>
  <cp:revision>51</cp:revision>
  <dc:subject/>
  <dc:title>Visa, Por que la Tecnología es ahora, aplicaciones globales para el mercado local</dc:title>
</cp:coreProperties>
</file>